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907588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FBB8-5087-41EC-982F-5F32DC3FE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8142-F337-47B7-AD6A-A0F1D9B6E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AC0E-4BD7-40D2-A260-B4A8A6B6D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32D5-D2ED-4EE7-A91F-A3BC19A1A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8B46C-5F02-4801-A093-C720AF4D6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0B5E0-8ED4-4E87-8EC5-C936BC54F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EBD74-F7ED-4FB7-AF74-FD5306270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772CF-3F31-42B5-B9F6-A0249A6AE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5CA59-7EF4-4BA4-B8C4-176060CE7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B434A-77A3-4345-8D84-D3FE13EA2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9C8D6-BDF4-4349-AA45-AB40F025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64AE-9691-4F19-9E78-4BDDCA838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4069D-7236-48D0-8A9E-93B39003B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920BE-A059-4010-AE9C-10585956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6F871-BD50-4F8C-8D78-0D6B2B23F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5F4D5-C2C4-443A-965E-167FCD82A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9FF1E-A570-4250-987A-D6C791014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E17A4-12B6-4A81-BD44-43671CF07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BF3CB-1443-4570-865B-3C02D263A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B5806-F029-4288-85E9-03B3A1C6E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27B13-6882-46AE-8B37-356237A25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EBFE0-1537-4CF3-854D-4B74F848F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0261-8EA0-4D35-AE39-147F90628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FFA2E4-71FF-49EA-9517-7AEEB1CA1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7F5D4-42D9-470E-8B9E-73ADB48D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DBA9F-2D63-405E-A3E9-FD80847A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5E68C-0DA1-4561-81E1-37FC275A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3D417-B827-414A-8790-744618CD5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C35BF-A11E-40CD-9650-96884C7D5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1294F-CFF2-4F03-8910-8A221FBE6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A0247-F7FB-49D3-B759-376535241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97D9C-55B9-4162-8FCE-02F1A14FA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14297-1BF4-4495-8BB3-A921A8738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BB7E-915D-439A-9D41-C7A3C8E21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809F2-82C0-4BC3-8CF3-73ECD7667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C57D1-BA71-4C69-B497-3B9BFE5F5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05691-453C-45B7-84F9-F0E8185F6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A5F4F-5100-4415-84EC-0EC73ED7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34A98-4C1F-498D-8767-7908106B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C83DB-6855-4AC4-9AED-044700BD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6220B-8A43-47CA-B02B-9DDD97B37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7BF5E-C85E-4BF5-96FA-A9BD66660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5B0A1-889E-47FD-870B-C473309D4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EBDA-4646-4108-AB66-A9BABAD9E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866B-FCEA-44AE-A410-825270A6C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BAC1-E5A1-4AD8-BA0B-CFB1186F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8F04-5564-4383-AA93-80B4DB6A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C8F3-01F4-41E9-9B09-F9252A17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2806D-FAB9-4504-BD93-3EA227433914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325440"/>
            <a:ext cx="9906120" cy="792000"/>
          </a:xfrm>
          <a:prstGeom prst="rect">
            <a:avLst/>
          </a:prstGeom>
          <a:solidFill>
            <a:srgbClr val="00206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Image 7" descr=""/>
          <p:cNvPicPr/>
          <p:nvPr/>
        </p:nvPicPr>
        <p:blipFill>
          <a:blip r:embed="rId2"/>
          <a:stretch/>
        </p:blipFill>
        <p:spPr>
          <a:xfrm>
            <a:off x="98280" y="485640"/>
            <a:ext cx="1578240" cy="4701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4C467-83E5-4D99-877D-596AA124FCAA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0" y="325440"/>
            <a:ext cx="9906120" cy="792000"/>
          </a:xfrm>
          <a:prstGeom prst="rect">
            <a:avLst/>
          </a:prstGeom>
          <a:solidFill>
            <a:srgbClr val="00206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Image 7" descr=""/>
          <p:cNvPicPr/>
          <p:nvPr/>
        </p:nvPicPr>
        <p:blipFill>
          <a:blip r:embed="rId2"/>
          <a:stretch/>
        </p:blipFill>
        <p:spPr>
          <a:xfrm>
            <a:off x="98280" y="485640"/>
            <a:ext cx="1578240" cy="4701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7B2B3-3897-450F-B451-6E6405D151F6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0" y="325440"/>
            <a:ext cx="9906120" cy="792000"/>
          </a:xfrm>
          <a:prstGeom prst="rect">
            <a:avLst/>
          </a:prstGeom>
          <a:solidFill>
            <a:srgbClr val="00206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Image 7" descr=""/>
          <p:cNvPicPr/>
          <p:nvPr/>
        </p:nvPicPr>
        <p:blipFill>
          <a:blip r:embed="rId2"/>
          <a:stretch/>
        </p:blipFill>
        <p:spPr>
          <a:xfrm>
            <a:off x="-195120" y="177840"/>
            <a:ext cx="1841400" cy="10904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6802A-E9BB-4B9F-A0B9-862A70C7180E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676160" y="325440"/>
            <a:ext cx="82407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Bell MT"/>
              </a:rPr>
              <a:t>            </a:t>
            </a:r>
            <a:r>
              <a:rPr b="1" lang="fr-FR" sz="2400" spc="-1" strike="noStrike">
                <a:solidFill>
                  <a:srgbClr val="ffffff"/>
                </a:solidFill>
                <a:latin typeface="Bell MT"/>
              </a:rPr>
              <a:t>Index : </a:t>
            </a:r>
            <a:r>
              <a:rPr b="0" lang="fr-FR" sz="2400" spc="-1" strike="noStrike">
                <a:solidFill>
                  <a:srgbClr val="ffffff"/>
                </a:solidFill>
                <a:latin typeface="Bell MT"/>
              </a:rPr>
              <a:t>Egalité Hommes Femmes 202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15800" y="1484280"/>
          <a:ext cx="9001080" cy="4248360"/>
        </p:xfrm>
        <a:graphic>
          <a:graphicData uri="http://schemas.openxmlformats.org/drawingml/2006/table">
            <a:tbl>
              <a:tblPr/>
              <a:tblGrid>
                <a:gridCol w="2378160"/>
                <a:gridCol w="1025640"/>
                <a:gridCol w="1352520"/>
                <a:gridCol w="1379520"/>
                <a:gridCol w="1361880"/>
                <a:gridCol w="1503360"/>
              </a:tblGrid>
              <a:tr h="687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8db4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teur calculable (1=oui, 0=non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8db4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eur de l'indicate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8db4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s obten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8db4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bre de points maximum de l'indicate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8db4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bre de points maximum des indicateurs calculabl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8db4e2"/>
                    </a:solidFill>
                  </a:tcPr>
                </a:tc>
              </a:tr>
              <a:tr h="5806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 écart de rémunération (en %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0" rIns="288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28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0" rIns="288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28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0" rIns="288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28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0" rIns="460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460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0" rIns="460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460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1"/>
                    </a:solidFill>
                  </a:tcPr>
                </a:tc>
              </a:tr>
              <a:tr h="650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 écarts d'augmentations individuelles (en points de % ou en nombre équivalent de salariés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0" rIns="288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28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0" rIns="288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28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0" rIns="288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28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0" rIns="460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460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0" rIns="460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460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8cce4"/>
                    </a:solidFill>
                  </a:tcPr>
                </a:tc>
              </a:tr>
              <a:tr h="581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 pourcentage de salariés augmentés au retour d'un congé maternité (%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0" rIns="288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28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0" rIns="288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28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0" rIns="288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28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0" rIns="460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460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0" rIns="460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460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1"/>
                    </a:solidFill>
                  </a:tcPr>
                </a:tc>
              </a:tr>
              <a:tr h="704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 nombre de salariés du sexe sous-représenté parmi les 10 plus hautes rémunératio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0" rIns="288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28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0" rIns="288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28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0" rIns="288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288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0" rIns="460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460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  <a:tc>
                  <a:txBody>
                    <a:bodyPr lIns="0" rIns="460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460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b8cce4"/>
                    </a:solidFill>
                  </a:tcPr>
                </a:tc>
              </a:tr>
              <a:tr h="5209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des indicateurs calculabl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0" rIns="288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28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0" rIns="288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28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0" rIns="288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28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0" rIns="460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460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e6f1"/>
                    </a:solidFill>
                  </a:tcPr>
                </a:tc>
                <a:tc>
                  <a:txBody>
                    <a:bodyPr lIns="0" rIns="460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460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ce6f1"/>
                    </a:solidFill>
                  </a:tcPr>
                </a:tc>
              </a:tr>
              <a:tr h="5223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EX (sur 100 points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0" rIns="288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28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0" rIns="288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28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0" rIns="28800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28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0" rIns="460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460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0" rIns="46044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R="460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pic>
        <p:nvPicPr>
          <p:cNvPr id="172" name="Picture 57" descr=""/>
          <p:cNvPicPr/>
          <p:nvPr/>
        </p:nvPicPr>
        <p:blipFill>
          <a:blip r:embed="rId1"/>
          <a:stretch/>
        </p:blipFill>
        <p:spPr>
          <a:xfrm>
            <a:off x="7723080" y="334800"/>
            <a:ext cx="1982880" cy="7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8T12:50:48Z</dcterms:created>
  <dc:creator>Timothee de Courlon</dc:creator>
  <dc:description/>
  <dc:language>en-US</dc:language>
  <cp:lastModifiedBy>Vanderbecq Emilie</cp:lastModifiedBy>
  <cp:lastPrinted>2021-01-19T08:59:26Z</cp:lastPrinted>
  <dcterms:modified xsi:type="dcterms:W3CDTF">2022-02-24T09:12:47Z</dcterms:modified>
  <cp:revision>648</cp:revision>
  <dc:subject/>
  <dc:title>Slide 1</dc:title>
</cp:coreProperties>
</file>